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486B0-2C2D-4394-A728-D01D697A8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E6DA4-D6E6-4BFC-A4F4-FF5FD283F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74CA3-F640-4BD2-8450-85EC1DA4B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D2FC9-4FFE-4447-B48F-5ACC76327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5BFB1-EB63-4C60-8444-B6AD47A08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1ADD2-9736-41E5-AFF9-7792CC0BE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A0DDD-A70A-4874-B28E-4B78FD694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200DB-BE70-4CCF-B8EE-113318441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976FA-8B0E-4B22-8DF0-0468854EC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E9C7D-2181-4FDA-AFEE-CC3492193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1E0ED-AC7F-4272-85B6-EEC41C65C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E229F-7B99-40D3-AA3E-C14109B81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12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1ACD4-924E-4030-935A-FAA80301A2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ompetitive Inhibitor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609480" y="4495680"/>
            <a:ext cx="3200400" cy="182880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m Asterito</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io Ciao</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ian DeCorte</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an Needles</a:t>
            </a:r>
            <a:endParaRPr b="0" lang="en-US" sz="2800" spc="-1" strike="noStrike">
              <a:solidFill>
                <a:srgbClr val="000000"/>
              </a:solidFill>
              <a:latin typeface="Arial"/>
            </a:endParaRPr>
          </a:p>
        </p:txBody>
      </p:sp>
      <p:pic>
        <p:nvPicPr>
          <p:cNvPr id="43" name="Picture 5" descr="800px-Competitive_inhibition"/>
          <p:cNvPicPr/>
          <p:nvPr/>
        </p:nvPicPr>
        <p:blipFill>
          <a:blip r:embed="rId1"/>
          <a:stretch/>
        </p:blipFill>
        <p:spPr>
          <a:xfrm>
            <a:off x="3962520" y="2819520"/>
            <a:ext cx="4952880" cy="347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it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protein that attaches to an enzyme at the active site, where the substrates would normally bin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otein has a similar shape of the substrate that binds to the enzyme, it will cause the enzyme to stop working (inhib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hibitor can be reversible if the concentration of the substrate is increased enoug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ulfiram</a:t>
            </a:r>
            <a:endParaRPr b="0" lang="en-US" sz="4400" spc="-1" strike="noStrike">
              <a:solidFill>
                <a:srgbClr val="000000"/>
              </a:solidFill>
              <a:latin typeface="Arial"/>
            </a:endParaRPr>
          </a:p>
        </p:txBody>
      </p:sp>
      <p:sp>
        <p:nvSpPr>
          <p:cNvPr id="47" name="PlaceHolder 2"/>
          <p:cNvSpPr>
            <a:spLocks noGrp="1"/>
          </p:cNvSpPr>
          <p:nvPr>
            <p:ph/>
          </p:nvPr>
        </p:nvSpPr>
        <p:spPr>
          <a:xfrm>
            <a:off x="457200" y="1599840"/>
            <a:ext cx="4191120" cy="4876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rug inhibits aldehyde oxidase which causes the buildup of acetaldehyde  that causes side-effects such as nausea and vomiting.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people overcome alcoholisms </a:t>
            </a:r>
            <a:endParaRPr b="0" lang="en-US" sz="24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curs in the </a:t>
            </a:r>
            <a:endParaRPr b="0" lang="en-US" sz="2000" spc="-1" strike="noStrike">
              <a:solidFill>
                <a:srgbClr val="000000"/>
              </a:solidFill>
              <a:latin typeface="Arial"/>
            </a:endParaRPr>
          </a:p>
        </p:txBody>
      </p:sp>
      <p:pic>
        <p:nvPicPr>
          <p:cNvPr id="48" name="Picture 6" descr="competitive_inhibition"/>
          <p:cNvPicPr/>
          <p:nvPr/>
        </p:nvPicPr>
        <p:blipFill>
          <a:blip r:embed="rId1"/>
          <a:stretch/>
        </p:blipFill>
        <p:spPr>
          <a:xfrm>
            <a:off x="4800600" y="1828800"/>
            <a:ext cx="3962520" cy="336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arin Gas</a:t>
            </a:r>
            <a:endParaRPr b="0" lang="en-US" sz="6000" spc="-1" strike="noStrike">
              <a:solidFill>
                <a:srgbClr val="000000"/>
              </a:solidFill>
              <a:latin typeface="Arial"/>
            </a:endParaRPr>
          </a:p>
        </p:txBody>
      </p:sp>
      <p:sp>
        <p:nvSpPr>
          <p:cNvPr id="50" name="PlaceHolder 2"/>
          <p:cNvSpPr>
            <a:spLocks noGrp="1"/>
          </p:cNvSpPr>
          <p:nvPr>
            <p:ph/>
          </p:nvPr>
        </p:nvSpPr>
        <p:spPr>
          <a:xfrm>
            <a:off x="228600" y="1295280"/>
            <a:ext cx="495288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rin gas inhibits the muscle cells, specifically in your back inhibiting you nervous system from receiving oxygen. The Sarin molecules fit into the active site on an enzyme and keeps the oxygen molecules from reaching the enzyme.</a:t>
            </a:r>
            <a:endParaRPr b="0" lang="en-US" sz="3200" spc="-1" strike="noStrike">
              <a:solidFill>
                <a:srgbClr val="000000"/>
              </a:solidFill>
              <a:latin typeface="Arial"/>
            </a:endParaRPr>
          </a:p>
        </p:txBody>
      </p:sp>
      <p:pic>
        <p:nvPicPr>
          <p:cNvPr id="51" name="Picture 5" descr="http://wb9.itrademarket.com/pdimage/37/637437_mask1.jpg"/>
          <p:cNvPicPr/>
          <p:nvPr/>
        </p:nvPicPr>
        <p:blipFill>
          <a:blip r:embed="rId1"/>
          <a:stretch/>
        </p:blipFill>
        <p:spPr>
          <a:xfrm>
            <a:off x="5334120" y="1752480"/>
            <a:ext cx="3324240" cy="33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DT Insecticide</a:t>
            </a:r>
            <a:endParaRPr b="0" lang="en-US" sz="4400" spc="-1" strike="noStrike">
              <a:solidFill>
                <a:srgbClr val="000000"/>
              </a:solidFill>
              <a:latin typeface="Arial"/>
            </a:endParaRPr>
          </a:p>
        </p:txBody>
      </p:sp>
      <p:sp>
        <p:nvSpPr>
          <p:cNvPr id="53" name="PlaceHolder 2"/>
          <p:cNvSpPr>
            <a:spLocks noGrp="1"/>
          </p:cNvSpPr>
          <p:nvPr>
            <p:ph/>
          </p:nvPr>
        </p:nvSpPr>
        <p:spPr>
          <a:xfrm>
            <a:off x="228600" y="1600200"/>
            <a:ext cx="5410080" cy="46483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ecticide that effects ATPase activity</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Pase makes ATP from ADP</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T is a competitive inhibitor that binds with the active site on ATPase, thus stopping the synthesis of ATP in the mitochondria in the body</a:t>
            </a:r>
            <a:endParaRPr b="0" lang="en-US" sz="3200" spc="-1" strike="noStrike">
              <a:solidFill>
                <a:srgbClr val="000000"/>
              </a:solidFill>
              <a:latin typeface="Arial"/>
            </a:endParaRPr>
          </a:p>
        </p:txBody>
      </p:sp>
      <p:pic>
        <p:nvPicPr>
          <p:cNvPr id="54" name="Picture 5" descr="http://www.mindfully.org/Pesticide/DDT-Household-Pests-USDA-Mar47a.GIF"/>
          <p:cNvPicPr/>
          <p:nvPr/>
        </p:nvPicPr>
        <p:blipFill>
          <a:blip r:embed="rId1"/>
          <a:stretch/>
        </p:blipFill>
        <p:spPr>
          <a:xfrm>
            <a:off x="5334120" y="1066680"/>
            <a:ext cx="3495600" cy="552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000000"/>
                </a:solidFill>
                <a:latin typeface="Arial"/>
              </a:rPr>
              <a:t>THE </a:t>
            </a:r>
            <a:br>
              <a:rPr sz="19600"/>
            </a:br>
            <a:r>
              <a:rPr b="0" lang="en-US" sz="19600" spc="-1" strike="noStrike">
                <a:solidFill>
                  <a:srgbClr val="000000"/>
                </a:solidFill>
                <a:latin typeface="Arial"/>
              </a:rPr>
              <a:t>END</a:t>
            </a:r>
            <a:endParaRPr b="0" lang="en-US" sz="1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8T16:35:02Z</dcterms:created>
  <dc:creator>xpstudent</dc:creator>
  <dc:description/>
  <dc:language>en-US</dc:language>
  <cp:lastModifiedBy>wtstudent1</cp:lastModifiedBy>
  <dcterms:modified xsi:type="dcterms:W3CDTF">2010-01-11T17:45:05Z</dcterms:modified>
  <cp:revision>5</cp:revision>
  <dc:subject/>
  <dc:title>Competitive Inhibitors </dc:title>
</cp:coreProperties>
</file>